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7A6-BDCC-4EAC-BB56-DD574C4C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60D-EEE4-4D1C-A388-7DFA6AFB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B15-E6A5-4984-B4EE-2E0C26FA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1D6-A18E-4764-8BFE-3AF030D6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3AD5-DF6C-4BBC-889A-9D68532D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F98A-092E-4085-80CC-A6B8F825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7603-7016-41A1-ADA6-8FDFF0DF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B871-49A1-4DA8-9F7D-C0271FA8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68EF-1992-453E-8617-76D9B86B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F435-DC7A-4B02-8F48-652C2E26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879D-EA2F-4587-9BCA-619221BD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31A4-9244-481B-BD56-F5AD8F17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1184-9A9A-4463-9637-97EE872C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932E-C72A-4DEE-A2F0-C8D27CFD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2F94-4ED3-48CA-8A85-5D90DF39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B7B6-B1F8-40F3-8EC5-0907843D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6F1A-CDD6-4B94-A9BE-CEE34C8D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EC8-BE39-4C3F-8058-524E40A6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2BB-9DE0-43BB-B396-1DACEE5E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BCF-161A-4603-A517-10066797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837-C426-4E04-BA88-6E047198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547-80CD-47C8-AFCC-A5916C45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D9E-E006-4911-AC26-994293CD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28B-D09A-4640-94B6-F4327893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70B6-669B-4D5C-9CB8-6EFA8294D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E7E2-18E7-4DFA-9A1B-DD5FF022DF7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sufep.com/bookspic/978-7-5642-1415-9.F.14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节  保险公司的经营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外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自然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人口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经济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政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五）社会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六）文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七）市场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经营的内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劳动者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经营技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资金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信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三节  保险公司的经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一般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经济核算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随行就市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薄利多销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的特殊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风险大量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风险选择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风险分散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四节   保险公司的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理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效益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信息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长期目标、中期目标和近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中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近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、公司利益目标和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司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、持续发展目标和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持续发展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一章  保险公司经营导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个目标之间的关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公司的经营管理部门，应当将财务稳定性目标、持续发展目标、盈利目标有机地结合起来，正确处理好三者的关系，在强调保证财务稳定性目标的基础上，对发展速度目标和盈利目标加以适当的平衡，否则利润和发展就成为无源之水、无本之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复习思考题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  实际费率   监管费率  纯费率  附加费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寿险费率厘定的要素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公司经营的内部环境和外部环境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经营的特殊原则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从保险公司财务管理的角度分析保险经营的目标以及相互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一节  保险经营的商品属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商品的使用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稳定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经济助动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管理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商品的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用保险费形式表示，保险商品的价值为纯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R+L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附加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C+V+M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商品的特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无形的商品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渴求商品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的消费是一种隐型消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商品的价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费率的种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际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管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财产保险费率的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判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增减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财产保险费率多采用分类法和增减法来厘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人寿保险费率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以下三个基本要素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死亡率或生存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利息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营业费用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的其他要素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退保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红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残废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保单中嵌入的各种选择权被保单持有人行使的概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09:04Z</dcterms:modified>
  <cp:revision>21</cp:revision>
  <dc:subject/>
  <dc:title>没有幻灯片标题</dc:title>
</cp:coreProperties>
</file>